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C396-8679-45A0-89F3-6FF2D2FD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F399-D6B9-478F-9423-97D686DA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1CBF-4E5C-46BD-8496-51E32A64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FDC3-5A7D-439F-A2DB-371D05F74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12B0-FC09-44A9-BCC0-32E060E4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2B55-D9DE-4796-86F5-2DB8E4D9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1416-7E0A-4E00-9ABB-F7F31DA2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A87D-34D9-4D94-AF0F-967C0617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FED0-57A1-41D0-8587-64778FC7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ED4D-E69A-43D1-AC4A-16976475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C019-2832-4142-BB60-08D8BE38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CD67-CB47-49AB-8030-1AED7604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4FB5-5991-44B0-9E98-2D4D17F5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1B8B-BF9B-48F0-AD5D-9DABE64F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3706-FCEA-4381-96F8-F2C1A642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1C83-4747-4A9B-B6F2-8C93E2317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7C19-4011-48E3-AA86-5BD476FD5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BA18-CC1E-4FF7-8275-89783393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20A9-5EE3-4CC3-B300-39A774A8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CD01-B748-4C5C-8B9D-6AFA5459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52A9-A352-4340-A89D-B4A47601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CDB7-3D11-47F4-B972-43D8FA05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1298-FC00-45CF-8992-1F64C5DB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7733-8547-4A20-9AA8-3E057A05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E86D-0BA8-4F20-85C9-E120C5303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1765-D201-41B7-BB1F-4201CAB12C5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二章   保险市场管理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、保险公司的组织结构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国有独资保险公司的组织结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董事会、监事会和经理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保险股份有限公司的组织结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股东大会、董事会、监事会和经理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三、保险公司的主要职能部门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如市场营销部、精算部 、承保部、服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务部、理赔部、投资部、财务部等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三节  保险市场供需分析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市场的供给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的供给是指在一定价格（保险费率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水平上，保险市场上各家保险公司愿意并且能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够提供的保险商品的数量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影响因素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费率、偿付能力、保险技术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市场的规范程度、政府的监管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保险市场的需求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的需求是指在一定的保险费率水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上，保险消费者从保险市场上愿意并有能力购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保险商品数量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影响因素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风险状况、保险费率、国内生产总值和消费者的货币收入、互补商品与替代商品价格、人口状况、文化传统、经济和法律制度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保险市场的供求平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供求平衡，是指在一定保险费率水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平下，保险供给恰好等于保险需求的状态，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供给与需求达到均衡点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四节  保险市场机制的运行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价值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价值规律是商品生产和商品交换的基本经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律，它的主要内容是：商品的价值量是由生产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商品的社会必要劳动时间决定的，在市场上，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品按照价值量进行等价交换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供求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供求规律表现为供给与需求之间的关系，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过对供需双方力量的调节达到市场均衡，从而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定市场的均衡价格，即供求状况决定商品的价格。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三、竞争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竞争是由商品内在的使用价值和价值的矛盾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的。但是保险中的竞争也受到一定的限制，主要是非价格竞争，如保险产品竞争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、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服务竞争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第一节   保险市场的特点与构成要素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五节  保险市场的监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 、保险监管的必要性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经营的公共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同的特殊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技术的复杂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交易过程的特殊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 、保险监管的目标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证保险公司的偿付能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维护保险市场的正常秩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证保险合同的公平和公正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防止保险欺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保险监管的形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告监管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范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实体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四、保险监管体系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监管法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监管机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行业协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信用评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五、保险监管内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保险市场行为的监督管理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机构的监督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业务的监督管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财务的监督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公司治理及内控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六、保险监管的方法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现场检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非现场检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国营保险  保险股份有限公司   相互保险公司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自保公司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国有独资保险公司的特点和组织结构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股份制保险公司和相互保险公司的特点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影响保险供给和需求的主要因素以及保险市场机制的特殊作用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监管的必要性和目标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列举保险监管的主要内容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、保险市场的特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市场的对象与风险直接相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市场是一种特殊的“期货”交易市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市场是非即时清洁市场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、保险市场的构成要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市场的主体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市场的客体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第二节  保险市场的组织形式与组织结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、保险市场的组织形式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国营保险组织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国营保险组织是由国家或政府投资设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保险经营组织，如国有独资保险公司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私营保险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私营保险组织是指由私人投资设立的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险经营组织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股份有限公司和相互保险公司是两种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型的私营保险组织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合作保险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作社是由一些具有相同保险需求的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组织起来、共同经营的相互保险组织。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相互保险社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作社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自保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专业自保组织是由某一行业或公司为本公司或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本系统提供保险保障的组织形式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。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五）个人保险组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人保险组织是以自然人的名义承保风险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务的一种组织形式。迄今为止，英国的劳合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是当今世界唯一的一家个人保险组织。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12:02Z</dcterms:modified>
  <cp:revision>24</cp:revision>
  <dc:subject/>
  <dc:title>没有幻灯片标题</dc:title>
</cp:coreProperties>
</file>